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1F2-44FA-4B62-A0C5-141C901C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247-A3FC-416B-AF5F-35BC892A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2C6-A8BC-45EE-BAF7-63E94682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820-E442-428A-BD36-4EEFF45D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DEB-A695-401A-9BBE-81817B81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C3A-A892-4023-B0BE-AF91C26A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F1F-C987-4521-848C-C95EBABC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EC1-FE10-4AFB-8278-EF123B9A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AF8-A144-4419-B627-24398D99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B05-FDD0-4F6D-BB1D-8CE89B62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F3F-D559-4A36-8767-8978F09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C43-B303-4069-B277-FC7BEB6E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B3D8-F7DC-45F0-94E5-19E3F258E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3: Applications of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nequalitie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Remember the 3 Method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y + 2x =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 - 12y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 + 12y =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two numbers is 59.  Their difference is 11.  What are the two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Identify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Write the system of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Eve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invested $400 in equipment to make t-shirts for her family reunion.  Each t-shirt costs $4 to print and sells for $15.  How many t-shirts must she sell before her small business breaks ev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/Valu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taurant charges $1.30 for 1 biscuit and 2 eggs.  It charges $2.15 for 2 biscuits and 3 eggs.  What is the cost of each biscuit and eg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hanie and Karen are saving money to purchase a stove for their mom.  Stephanie has $140 and deposits $30 each day.  Karen has $100 and deposits an additional $30 per day.  After how many days will the sisters have the same amount of money sa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ngth of a rectangle is 2 cm more than 4 times the width.  If the perimeter of the rectangle is 84 cm, what are the dimen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52 people attended a ball game.  There were three times as many children as adults.  Set up a system of equations that represents the numbers of adults and children who attended the game and solve the system to find the number of children who were in the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a = c + 3; 39 adults and 25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a = 3c; 39 adults and 13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c = a + 3; 25 adults and 39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c = 52 and c = 3a; 13 adults and 39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has a pet-care job that pays $5 per hour.  She also does child care and charges $8 per hour.   She wants to earn at least $125 each week but does not want to work more than 20 hours.  Which situation would satisfy both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2 hours and child care for 8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4 hours and child care for 6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8 hours and child care for 12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y could do pet care for 10 hours and child care for 9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0:22:37Z</dcterms:created>
  <dc:creator>Sharon Fieldman</dc:creator>
  <dc:description/>
  <dc:language>en-US</dc:language>
  <cp:lastModifiedBy>sfieldman</cp:lastModifiedBy>
  <dcterms:modified xsi:type="dcterms:W3CDTF">2011-05-16T14:58:04Z</dcterms:modified>
  <cp:revision>16</cp:revision>
  <dc:subject/>
  <dc:title>Goal 4.03: Applications of Systems</dc:title>
</cp:coreProperties>
</file>